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27.gif" ContentType="image/gif"/>
  <Override PartName="/ppt/media/image11.gif" ContentType="image/gif"/>
  <Override PartName="/ppt/media/image32.wmf" ContentType="image/x-wmf"/>
  <Override PartName="/ppt/media/image10.gif" ContentType="image/gif"/>
  <Override PartName="/ppt/media/image6.gif" ContentType="image/gif"/>
  <Override PartName="/ppt/media/image43.wmf" ContentType="image/x-wmf"/>
  <Override PartName="/ppt/media/image18.gif" ContentType="image/gif"/>
  <Override PartName="/ppt/media/image1.jpeg" ContentType="image/jpeg"/>
  <Override PartName="/ppt/media/image50.wmf" ContentType="image/x-wmf"/>
  <Override PartName="/ppt/media/image33.gif" ContentType="image/gif"/>
  <Override PartName="/ppt/media/image31.wmf" ContentType="image/x-wmf"/>
  <Override PartName="/ppt/media/image29.wmf" ContentType="image/x-wmf"/>
  <Override PartName="/ppt/media/image47.wmf" ContentType="image/x-wmf"/>
  <Override PartName="/ppt/media/image30.wmf" ContentType="image/x-wmf"/>
  <Override PartName="/ppt/media/image34.gif" ContentType="image/gif"/>
  <Override PartName="/ppt/media/image65.wmf" ContentType="image/x-wmf"/>
  <Override PartName="/ppt/media/image14.gif" ContentType="image/gif"/>
  <Override PartName="/ppt/media/image2.gif" ContentType="image/gif"/>
  <Override PartName="/ppt/media/image28.wmf" ContentType="image/x-wmf"/>
  <Override PartName="/ppt/media/image25.wmf" ContentType="image/x-wmf"/>
  <Override PartName="/ppt/media/image49.wmf" ContentType="image/x-wmf"/>
  <Override PartName="/ppt/media/image35.gif" ContentType="image/gif"/>
  <Override PartName="/ppt/media/image60.wmf" ContentType="image/x-wmf"/>
  <Override PartName="/ppt/media/image23.wmf" ContentType="image/x-wmf"/>
  <Override PartName="/ppt/media/image36.gif" ContentType="image/gif"/>
  <Override PartName="/ppt/media/image61.wmf" ContentType="image/x-wmf"/>
  <Override PartName="/ppt/media/image1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48.wmf" ContentType="image/x-wmf"/>
  <Override PartName="/ppt/media/image20.wmf" ContentType="image/x-wmf"/>
  <Override PartName="/ppt/media/image57.wmf" ContentType="image/x-wmf"/>
  <Override PartName="/ppt/media/image44.wmf" ContentType="image/x-wmf"/>
  <Override PartName="/ppt/media/image7.gif" ContentType="image/gif"/>
  <Override PartName="/ppt/media/image37.gif" ContentType="image/gif"/>
  <Override PartName="/ppt/media/image62.wmf" ContentType="image/x-wmf"/>
  <Override PartName="/ppt/media/image12.gif" ContentType="image/gif"/>
  <Override PartName="/ppt/media/image21.wmf" ContentType="image/x-wmf"/>
  <Override PartName="/ppt/media/image58.wmf" ContentType="image/x-wmf"/>
  <Override PartName="/ppt/media/image45.wmf" ContentType="image/x-wmf"/>
  <Override PartName="/ppt/media/image8.gif" ContentType="image/gif"/>
  <Override PartName="/ppt/media/image38.gif" ContentType="image/gif"/>
  <Override PartName="/ppt/media/image63.wmf" ContentType="image/x-wmf"/>
  <Override PartName="/ppt/media/image13.gif" ContentType="image/gif"/>
  <Override PartName="/ppt/media/image46.wmf" ContentType="image/x-wmf"/>
  <Override PartName="/ppt/media/image9.gif" ContentType="image/gif"/>
  <Override PartName="/ppt/media/image39.gif" ContentType="image/gif"/>
  <Override PartName="/ppt/media/image64.wmf" ContentType="image/x-wmf"/>
  <Override PartName="/ppt/media/image3.gif" ContentType="image/gif"/>
  <Override PartName="/ppt/media/image15.gif" ContentType="image/gif"/>
  <Override PartName="/ppt/media/image40.wmf" ContentType="image/x-wmf"/>
  <Override PartName="/ppt/media/image4.gif" ContentType="image/gif"/>
  <Override PartName="/ppt/media/image16.gif" ContentType="image/gif"/>
  <Override PartName="/ppt/media/image41.wmf" ContentType="image/x-wmf"/>
  <Override PartName="/ppt/media/image5.gif" ContentType="image/gif"/>
  <Override PartName="/ppt/media/image17.gif" ContentType="image/gif"/>
  <Override PartName="/ppt/media/image42.wmf" ContentType="image/x-wmf"/>
  <Override PartName="/ppt/media/image26.gif" ContentType="image/gif"/>
  <Override PartName="/ppt/media/image5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9E4-1499-4974-8B86-3F525DF5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712-27AF-4BAF-BFEC-53D7F567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19F-F391-4BF0-A2B7-4DD06099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FAA-81C0-4C4B-9E77-52BAC084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E7B19-245C-4919-8F37-94D81453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DD23D-1907-438A-9CDF-FBC38FBB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ACE9B-834B-4B89-B81D-EEB2BE6B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074FE-08C4-48B3-AFA6-C560309D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73135-312E-48BB-830C-06E4C994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DF71D-88E2-4FE2-A11A-F4AA2B86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8DB1F-9DAB-4357-AA39-BEE3E3C2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31D-A291-449D-A54F-37AF4B70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818E3-D0B7-4A58-9D38-87C0B1E7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A31B6-7A39-4558-BEAB-BD8B35DB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D1817-D17C-4CFB-A694-4958D509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6B57A-1887-48C5-96AE-97DFEF98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5D16B-2FAF-4C86-BE98-CBE7AEF3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1D5-60F0-47E1-9A21-FB6AE1AC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ACA-7D8F-4504-B9CC-2CB6D611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86F-08CC-4452-856A-36411EF9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0FF-F52F-4304-B2FF-9F18BAC7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FA7-AF80-4DD4-A2F7-EA2389C6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0DA-2F52-4EA3-97CB-49469233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639-8471-4AE1-91E4-292C3E69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8608-4390-4A6B-9CB7-1A6B043FB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A2D6-843C-4B30-B0C6-1FC6B7679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image" Target="../media/image3.gif"/><Relationship Id="rId16" Type="http://schemas.openxmlformats.org/officeDocument/2006/relationships/image" Target="../media/image15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8.gif"/><Relationship Id="rId20" Type="http://schemas.openxmlformats.org/officeDocument/2006/relationships/image" Target="../media/image1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5.gif"/><Relationship Id="rId24" Type="http://schemas.openxmlformats.org/officeDocument/2006/relationships/image" Target="../media/image22.wmf"/><Relationship Id="rId25" Type="http://schemas.openxmlformats.org/officeDocument/2006/relationships/image" Target="../media/image23.wmf"/><Relationship Id="rId26" Type="http://schemas.openxmlformats.org/officeDocument/2006/relationships/image" Target="../media/image24.wmf"/><Relationship Id="rId27" Type="http://schemas.openxmlformats.org/officeDocument/2006/relationships/image" Target="../media/image25.wmf"/><Relationship Id="rId2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image" Target="../media/image49.wmf"/><Relationship Id="rId10" Type="http://schemas.openxmlformats.org/officeDocument/2006/relationships/image" Target="../media/image50.wmf"/><Relationship Id="rId11" Type="http://schemas.openxmlformats.org/officeDocument/2006/relationships/image" Target="../media/image51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image" Target="../media/image62.wmf"/><Relationship Id="rId13" Type="http://schemas.openxmlformats.org/officeDocument/2006/relationships/image" Target="../media/image63.wmf"/><Relationship Id="rId14" Type="http://schemas.openxmlformats.org/officeDocument/2006/relationships/image" Target="../media/image64.wmf"/><Relationship Id="rId15" Type="http://schemas.openxmlformats.org/officeDocument/2006/relationships/image" Target="../media/image65.wmf"/><Relationship Id="rId16" Type="http://schemas.openxmlformats.org/officeDocument/2006/relationships/image" Target="../media/image23.wmf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about 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rai Summersc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257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564000" y="981000"/>
            <a:ext cx="8856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651640" y="47628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877080" y="333360"/>
            <a:ext cx="533520" cy="857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473200" y="835200"/>
            <a:ext cx="838440" cy="923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1758960" y="731880"/>
            <a:ext cx="628560" cy="600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81080" y="395280"/>
            <a:ext cx="1190520" cy="8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8088480" y="5646600"/>
            <a:ext cx="1218960" cy="1190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6907320" y="5813280"/>
            <a:ext cx="1199880" cy="1047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5780160" y="5740560"/>
            <a:ext cx="1218960" cy="981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03680" y="5499000"/>
            <a:ext cx="1276560" cy="1123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3630600" y="579132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2422440" y="5761080"/>
            <a:ext cx="1238400" cy="876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5"/>
          <a:stretch/>
        </p:blipFill>
        <p:spPr>
          <a:xfrm>
            <a:off x="1449360" y="5688000"/>
            <a:ext cx="88596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6"/>
          <a:stretch/>
        </p:blipFill>
        <p:spPr>
          <a:xfrm>
            <a:off x="690480" y="5435640"/>
            <a:ext cx="63828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7"/>
          <a:stretch/>
        </p:blipFill>
        <p:spPr>
          <a:xfrm>
            <a:off x="565200" y="4395960"/>
            <a:ext cx="657000" cy="904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8"/>
          <a:stretch/>
        </p:blipFill>
        <p:spPr>
          <a:xfrm>
            <a:off x="574560" y="3268800"/>
            <a:ext cx="638280" cy="90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9"/>
          <a:stretch/>
        </p:blipFill>
        <p:spPr>
          <a:xfrm>
            <a:off x="577800" y="2800440"/>
            <a:ext cx="609480" cy="333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0"/>
          <a:stretch/>
        </p:blipFill>
        <p:spPr>
          <a:xfrm>
            <a:off x="7211880" y="1592280"/>
            <a:ext cx="1865520" cy="1773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1"/>
          <a:stretch/>
        </p:blipFill>
        <p:spPr>
          <a:xfrm>
            <a:off x="7031160" y="3321000"/>
            <a:ext cx="2014560" cy="1376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2"/>
          <a:stretch/>
        </p:blipFill>
        <p:spPr>
          <a:xfrm>
            <a:off x="7407360" y="4425840"/>
            <a:ext cx="1455480" cy="1844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3"/>
          <a:stretch/>
        </p:blipFill>
        <p:spPr>
          <a:xfrm>
            <a:off x="4427640" y="1989000"/>
            <a:ext cx="533160" cy="857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4"/>
          <a:stretch/>
        </p:blipFill>
        <p:spPr>
          <a:xfrm>
            <a:off x="6016680" y="1582560"/>
            <a:ext cx="1279440" cy="185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5"/>
          <a:stretch/>
        </p:blipFill>
        <p:spPr>
          <a:xfrm>
            <a:off x="1182600" y="2109960"/>
            <a:ext cx="2059200" cy="2119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6"/>
          <a:stretch/>
        </p:blipFill>
        <p:spPr>
          <a:xfrm>
            <a:off x="5081760" y="4272120"/>
            <a:ext cx="1977840" cy="1492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7"/>
          <a:stretch/>
        </p:blipFill>
        <p:spPr>
          <a:xfrm>
            <a:off x="1138320" y="4110120"/>
            <a:ext cx="18064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y family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a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u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odie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ra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Do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Jess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77320" y="4941720"/>
            <a:ext cx="1066680" cy="1343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17080" y="0"/>
            <a:ext cx="628560" cy="60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132000" y="4292640"/>
            <a:ext cx="2500560" cy="2382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451320" y="1668600"/>
            <a:ext cx="2128680" cy="201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059600" y="1698480"/>
            <a:ext cx="1863720" cy="1517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991120" y="4656240"/>
            <a:ext cx="1828800" cy="1832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5934240" y="273384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  favourite   Anim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446960" y="4906800"/>
            <a:ext cx="1019160" cy="92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143840" y="3929040"/>
            <a:ext cx="1314360" cy="895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542360" y="3009960"/>
            <a:ext cx="714240" cy="90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7520040" y="2001960"/>
            <a:ext cx="952560" cy="780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938920" y="452448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606920" y="4748040"/>
            <a:ext cx="1019160" cy="1086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4083120" y="49579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838080" y="3772080"/>
            <a:ext cx="2605320" cy="206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4237200" y="2124000"/>
            <a:ext cx="28494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lik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orbi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1090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51480" y="76320"/>
            <a:ext cx="2579400" cy="163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443720" y="1181160"/>
            <a:ext cx="1816200" cy="1270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419960" y="2538360"/>
            <a:ext cx="1573200" cy="1801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019920" y="4316400"/>
            <a:ext cx="2836800" cy="2316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3063960" y="4692600"/>
            <a:ext cx="2798640" cy="1930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246240" y="5019840"/>
            <a:ext cx="2166840" cy="1714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3522600" y="2525760"/>
            <a:ext cx="2463840" cy="1947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1832040" y="3286080"/>
            <a:ext cx="1824120" cy="130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58680" y="32702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y favourite foo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402240" y="1871640"/>
            <a:ext cx="2379960" cy="2470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979640" y="4292640"/>
            <a:ext cx="2419200" cy="2400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389480" y="3435480"/>
            <a:ext cx="1466640" cy="2647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724360" y="4149720"/>
            <a:ext cx="1785960" cy="1368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2720" y="1838160"/>
            <a:ext cx="2409840" cy="2713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539640" y="2852640"/>
            <a:ext cx="2400480" cy="228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4086360" y="4676760"/>
            <a:ext cx="1346040" cy="3100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4648320" y="1620720"/>
            <a:ext cx="1850760" cy="2444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6068880" y="6046920"/>
            <a:ext cx="2543400" cy="1784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213600" y="1440"/>
            <a:ext cx="1752480" cy="2354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0" y="4365720"/>
            <a:ext cx="2354400" cy="212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7164360" y="5157720"/>
            <a:ext cx="1657440" cy="126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5138640" y="5129280"/>
            <a:ext cx="1571760" cy="181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-209520" y="7224840"/>
            <a:ext cx="2751120" cy="203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tretch/>
        </p:blipFill>
        <p:spPr>
          <a:xfrm>
            <a:off x="3417840" y="1797120"/>
            <a:ext cx="20592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1:35:20Z</dcterms:created>
  <dc:creator>deecd</dc:creator>
  <dc:description/>
  <dc:language>en-US</dc:language>
  <cp:lastModifiedBy>deecd</cp:lastModifiedBy>
  <dcterms:modified xsi:type="dcterms:W3CDTF">2009-05-07T02:00:05Z</dcterms:modified>
  <cp:revision>4</cp:revision>
  <dc:subject/>
  <dc:title>All about me</dc:title>
</cp:coreProperties>
</file>